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E58F-996E-45A5-9EBA-8EFFE96F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C23-37BC-4547-9973-56AE9AEA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94A-AA54-467A-9362-C646B1B6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8E7-7C9E-4AC8-A751-EFE55C2B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4D9-C1E3-4530-A24A-622F8156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686-7DE6-418E-89EA-3E0FA683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DEF-5480-4B51-8AC8-FEAFABD1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578-4232-418B-8210-C4759625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997-DB15-404F-9F1B-1A03F217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BD39-0ADC-4B0D-975D-775674B2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6DD-DEF5-4B39-9AAB-CC2F1A44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E0D-1B92-4429-94EF-35197531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CABC-AAA4-4798-A4BF-77251E43C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14480" y="0"/>
            <a:ext cx="9372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WORLD LITERA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t Portfolio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na Marie Pelle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na Christine Gayan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represents a language or a people: culture and tradition. But, literature is more important than just a historical or cultural artifact. Literature introduces us to new worlds of experience. We learn about books and literature; we enjoy the comedies and the tragedies of poems, stories, and plays; and we may even grow and evolve through our literary journey with books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ision for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reating this unit, we wa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 meaning in literature by looking at what the author says and how he/she say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 the author's mess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literature through the use of critical paradig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roject will help my students develop 2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ntury skills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Communication with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ing Collabo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ing about Literature and drawing conclusions to answer cfq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riculum-Framing Ques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ill we be without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Ques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importance of literature in our l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elation of literature to huma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get from studying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major forms of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critical approaches to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get from studying lit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unit,our students will work on as the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 the bigger ideas behind the content they learn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critically and logically to make relationships between evidence and 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uging Student Needs Assess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ests for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ways to help students understand the meaning of life and the purpose of huma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help assessing students’ higher-order think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ture adds to reality, it does not simply describe it. It enriches the necessary competencies that daily life requires and provides; and in this respect, it irrigates the deserts that our lives have already become.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C. S. Lewi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The difficulty of literature is not to write, but to write what you mean; not to affect your reader, but to affect him precisely as you wish.”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Robert Louis Steve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2:22:53Z</dcterms:created>
  <dc:creator>nave1386</dc:creator>
  <dc:description/>
  <dc:language>en-US</dc:language>
  <cp:lastModifiedBy>nave1386</cp:lastModifiedBy>
  <dcterms:modified xsi:type="dcterms:W3CDTF">2010-09-13T22:57:41Z</dcterms:modified>
  <cp:revision>29</cp:revision>
  <dc:subject/>
  <dc:title>WORLD LITERATURE</dc:title>
</cp:coreProperties>
</file>